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4B3-1522-4C37-850C-FBF70D51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000-58FE-46D9-9C59-D446F3C6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450-216D-4884-BBA6-E77A8C02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2BE-308F-4D81-86DE-4A17EBAA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744-AED7-4429-BD46-32BE2204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5DC3-1349-429E-A517-5FCDB9A3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0EF-114E-4EC7-8BBE-36AF42CA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FE7-498D-47C4-9750-0296860F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4BB-CCAA-464C-9617-B36A43C9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2E1-2153-4968-BF06-BB4920F8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BCBC-5FEA-484A-9966-E63C4FFD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0DD-9869-46F8-A869-4C4881E5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A887-09A3-4731-A314-1322EB7E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r Humphry D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ocky Kess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on December 17, 1778 in Penzance, Cornwall,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father died in 179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y, in an effort to help support his family, became an apprentice to a surgeon-apothecary, J. Binghan Bor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ibutions to Electr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r Davy was the first to discover that different materials attract electrons better than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were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867280" y="2590920"/>
            <a:ext cx="3103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ions to Electron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ain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y eventually discovered magnesium, calcium, strontium, and barium in 1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is used to make spark plugs, and is used for coating fluorescent light bul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4383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ions to Electron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More!!!!!!!!!!!!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esium is used for combining metals and refine titan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um is used for constructing cement and mortar. It is also used for detecting 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ributions to Electronic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the Last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tium is used in studies of neurotransmitter release in neurons and in glass for colour television cathode ray tubes to prevent X-ray e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15:45:07Z</dcterms:created>
  <dc:creator>tstudentp</dc:creator>
  <dc:description/>
  <dc:language>en-US</dc:language>
  <cp:lastModifiedBy>tstudentp</cp:lastModifiedBy>
  <dcterms:modified xsi:type="dcterms:W3CDTF">2010-02-04T15:59:19Z</dcterms:modified>
  <cp:revision>2</cp:revision>
  <dc:subject/>
  <dc:title>Sir Humphry Davy</dc:title>
</cp:coreProperties>
</file>